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CC0-945F-4666-9FA3-07F9B43B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8CF-826A-484D-8741-D7532BA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203-D9BE-4DD4-AB8E-52BC0FBD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545-8A91-456F-B666-CCB794B4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F0E-4A86-4CAB-8B13-74785BC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E76-B6BC-472D-9653-BB9507D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9A0-DBB2-4956-91E1-4DCADE8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B00-D3BA-47C3-BBAF-557167F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33F-483A-4930-AF4F-CE5BD817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6A4-EFE4-4125-BA2B-E558BB9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B30-BFAF-4AC5-8A88-766F3E3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9D4-B5D0-4BD5-A6DB-C0A8689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5F95-F3CC-4064-96FE-CC7835266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hyperlink" Target="http://www.scootle.edu.au/ec/login.action" TargetMode="External"/><Relationship Id="rId11" Type="http://schemas.openxmlformats.org/officeDocument/2006/relationships/image" Target="../media/image7.png"/><Relationship Id="rId12" Type="http://schemas.openxmlformats.org/officeDocument/2006/relationships/hyperlink" Target="http://www.socrative.com/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www.flickr.com/creativecommons/" TargetMode="External"/><Relationship Id="rId15" Type="http://schemas.openxmlformats.org/officeDocument/2006/relationships/image" Target="../media/image9.png"/><Relationship Id="rId16" Type="http://schemas.openxmlformats.org/officeDocument/2006/relationships/hyperlink" Target="https://www.dropbox.com/home" TargetMode="External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27.png"/><Relationship Id="rId4" Type="http://schemas.openxmlformats.org/officeDocument/2006/relationships/hyperlink" Target="http://novastartalk.nvcc.edu/2012/02/animoto-for-the-world-languages-classroom-2/" TargetMode="External"/><Relationship Id="rId5" Type="http://schemas.openxmlformats.org/officeDocument/2006/relationships/image" Target="../media/image28.png"/><Relationship Id="rId6" Type="http://schemas.openxmlformats.org/officeDocument/2006/relationships/hyperlink" Target="http://animoto.com/blog/using-animoto/create-voice-over-video/" TargetMode="External"/><Relationship Id="rId7" Type="http://schemas.openxmlformats.org/officeDocument/2006/relationships/hyperlink" Target="http://animoto.com/blog/using-animoto/create-voice-over-video/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tpack.org/" TargetMode="External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hippasus.com/rrpweblog/archives/2013/01/30/TechnologyInEducationFourKeyComponents.pdf" TargetMode="External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crative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" Target="slide1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mfl-storybirds.wikispaces.com/German+Storybirds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mfl-storybirds.wikispaces.com/French+Storybirds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storybird.com/teachers/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nemotion.com/flash/sketch-paint/" TargetMode="External"/><Relationship Id="rId2" Type="http://schemas.openxmlformats.org/officeDocument/2006/relationships/image" Target="../media/image19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onemotion.com/flash/sketch-paint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www.flickr.com/creativecommons/" TargetMode="External"/><Relationship Id="rId5" Type="http://schemas.openxmlformats.org/officeDocument/2006/relationships/image" Target="../media/image23.png"/><Relationship Id="rId6" Type="http://schemas.openxmlformats.org/officeDocument/2006/relationships/slide" Target="slide1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play/xDDPC9jVwApjS5qwFFFG5g" TargetMode="External"/><Relationship Id="rId3" Type="http://schemas.openxmlformats.org/officeDocument/2006/relationships/image" Target="../media/image24.png"/><Relationship Id="rId4" Type="http://schemas.openxmlformats.org/officeDocument/2006/relationships/slide" Target="slide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play/qehbsUqxsD2EewGPNy4VBw" TargetMode="External"/><Relationship Id="rId3" Type="http://schemas.openxmlformats.org/officeDocument/2006/relationships/image" Target="../media/image26.png"/><Relationship Id="rId4" Type="http://schemas.openxmlformats.org/officeDocument/2006/relationships/slide" Target="slide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97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24000" y="1052640"/>
            <a:ext cx="6481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guages in Pri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AU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87280" y="3933720"/>
            <a:ext cx="2376720" cy="145440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grpSp>
        <p:nvGrpSpPr>
          <p:cNvPr id="45" name="Group 10"/>
          <p:cNvGrpSpPr/>
          <p:nvPr/>
        </p:nvGrpSpPr>
        <p:grpSpPr>
          <a:xfrm>
            <a:off x="7332840" y="3606840"/>
            <a:ext cx="1272960" cy="2786040"/>
            <a:chOff x="7332840" y="3606840"/>
            <a:chExt cx="1272960" cy="2786040"/>
          </a:xfrm>
        </p:grpSpPr>
        <p:pic>
          <p:nvPicPr>
            <p:cNvPr id="46" name="Picture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332840" y="3606840"/>
              <a:ext cx="1262160" cy="26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6"/>
            <a:stretch/>
          </p:blipFill>
          <p:spPr>
            <a:xfrm>
              <a:off x="8255880" y="6297120"/>
              <a:ext cx="349920" cy="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"/>
            <p:cNvPicPr/>
            <p:nvPr/>
          </p:nvPicPr>
          <p:blipFill>
            <a:blip r:embed="rId7"/>
            <a:stretch/>
          </p:blipFill>
          <p:spPr>
            <a:xfrm>
              <a:off x="8096760" y="6297120"/>
              <a:ext cx="160560" cy="9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27320" y="3892680"/>
            <a:ext cx="2448000" cy="153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819440" y="5089680"/>
            <a:ext cx="1719000" cy="107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87280" y="2565360"/>
            <a:ext cx="2087640" cy="117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284720" y="2808360"/>
            <a:ext cx="16160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781680" y="2354400"/>
            <a:ext cx="226080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3635280" y="1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>
            <a:hlinkClick r:id="rId1" action="ppaction://hlinksldjump"/>
          </p:cNvPr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244000" y="609300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340000" y="1052640"/>
            <a:ext cx="451476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05360"/>
            <a:ext cx="4032360" cy="191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Box 7">
            <a:hlinkClick r:id="rId6"/>
          </p:cNvPr>
          <p:cNvSpPr/>
          <p:nvPr/>
        </p:nvSpPr>
        <p:spPr>
          <a:xfrm>
            <a:off x="478800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Adding voice to Ani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006720" cy="187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4103640" cy="251316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Pauline\Desktop\tale.jpg"/>
          <p:cNvPicPr/>
          <p:nvPr/>
        </p:nvPicPr>
        <p:blipFill>
          <a:blip r:embed="rId3"/>
          <a:stretch/>
        </p:blipFill>
        <p:spPr>
          <a:xfrm>
            <a:off x="3292560" y="3213000"/>
            <a:ext cx="585144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250920" y="2133720"/>
            <a:ext cx="1008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276720" y="2565360"/>
            <a:ext cx="5745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979640" y="40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244000" y="602136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pan298.WAV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79280" y="476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serting Sound into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rcRect l="24380" t="36374" r="18732" b="20058"/>
          <a:stretch/>
        </p:blipFill>
        <p:spPr>
          <a:xfrm>
            <a:off x="8459640" y="5516640"/>
            <a:ext cx="505080" cy="433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9"/>
          <p:cNvGrpSpPr/>
          <p:nvPr/>
        </p:nvGrpSpPr>
        <p:grpSpPr>
          <a:xfrm>
            <a:off x="3492360" y="476280"/>
            <a:ext cx="3773520" cy="5816520"/>
            <a:chOff x="3492360" y="476280"/>
            <a:chExt cx="3773520" cy="5816520"/>
          </a:xfrm>
        </p:grpSpPr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3492360" y="476280"/>
              <a:ext cx="3740760" cy="56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"/>
            <p:cNvPicPr/>
            <p:nvPr/>
          </p:nvPicPr>
          <p:blipFill>
            <a:blip r:embed="rId4"/>
            <a:stretch/>
          </p:blipFill>
          <p:spPr>
            <a:xfrm>
              <a:off x="6228000" y="6093000"/>
              <a:ext cx="103788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"/>
            <p:cNvPicPr/>
            <p:nvPr/>
          </p:nvPicPr>
          <p:blipFill>
            <a:blip r:embed="rId5"/>
            <a:stretch/>
          </p:blipFill>
          <p:spPr>
            <a:xfrm>
              <a:off x="5756760" y="6093000"/>
              <a:ext cx="475920" cy="19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Pauline\Desktop\powerpoint sound.jpg"/>
          <p:cNvPicPr/>
          <p:nvPr/>
        </p:nvPicPr>
        <p:blipFill>
          <a:blip r:embed="rId1"/>
          <a:stretch/>
        </p:blipFill>
        <p:spPr>
          <a:xfrm>
            <a:off x="250920" y="1916280"/>
            <a:ext cx="8659800" cy="2447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1403280" y="5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serting Sound into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Pauline\Desktop\Package for CD.jpg"/>
          <p:cNvPicPr/>
          <p:nvPr/>
        </p:nvPicPr>
        <p:blipFill>
          <a:blip r:embed="rId1"/>
          <a:stretch/>
        </p:blipFill>
        <p:spPr>
          <a:xfrm>
            <a:off x="611280" y="907920"/>
            <a:ext cx="4905360" cy="418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Pauline\Desktop\CD.jpg"/>
          <p:cNvPicPr/>
          <p:nvPr/>
        </p:nvPicPr>
        <p:blipFill>
          <a:blip r:embed="rId2"/>
          <a:stretch/>
        </p:blipFill>
        <p:spPr>
          <a:xfrm>
            <a:off x="5148360" y="3716280"/>
            <a:ext cx="355284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908000" y="18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owerPoint Package for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3"/>
          <a:srcRect l="16254" t="36374" r="18732" b="20058"/>
          <a:stretch/>
        </p:blipFill>
        <p:spPr>
          <a:xfrm>
            <a:off x="8388360" y="6165720"/>
            <a:ext cx="576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2556000" y="4809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serting sound - IW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rcRect l="16254" t="36374" r="18732" b="20058"/>
          <a:stretch/>
        </p:blipFill>
        <p:spPr>
          <a:xfrm>
            <a:off x="8244000" y="609300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095720" cy="3819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258920" y="126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eetings – ticker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931280" y="12682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ndy – show me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6024960" y="2852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MARTBoard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9777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2627280" y="2060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rryl Wahlin and Pauline Lew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ducation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l 12, 99 York Street, Sydney NSW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hone (02) 9299 2845  Web aisnsw.edu.a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 ais@aisnsw.edu.au ABN 96 003 509 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403280" y="61657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708360" y="836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tpack"/>
          <p:cNvPicPr/>
          <p:nvPr/>
        </p:nvPicPr>
        <p:blipFill>
          <a:blip r:embed="rId1"/>
          <a:stretch/>
        </p:blipFill>
        <p:spPr>
          <a:xfrm>
            <a:off x="2933640" y="1916280"/>
            <a:ext cx="3276720" cy="3295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771640" y="54846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produced by permission of the publisher, © 2012 by tpack.org   accessed 12/03/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2200" y="16383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TPACK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612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A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414520" y="2050920"/>
            <a:ext cx="395280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763640" y="5516640"/>
            <a:ext cx="58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hippasus.com/rrpweblog/archives/2013/01/30/TechnologyInEducationFourKeyComponents.pdf</a:t>
            </a:r>
            <a:r>
              <a:rPr b="0" lang="en-A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accessed 12/03/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9160" y="10526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uben Puente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6069240" cy="4197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6372360" y="1665360"/>
            <a:ext cx="264636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492360" y="54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>
            <a:hlinkClick r:id="rId4" action="ppaction://hlinksldjump"/>
          </p:cNvPr>
          <p:cNvPicPr/>
          <p:nvPr/>
        </p:nvPicPr>
        <p:blipFill>
          <a:blip r:embed="rId5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938240" y="1039680"/>
            <a:ext cx="623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DO you use quizzes to pretest before starting a unit of work, cheking that you and /or your students are on track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uld you use it for continuous assessment, for giving feedback to students and for yourself, how else could you use an online quizz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write your quiz questio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>
            <a:hlinkClick r:id="rId1" action="ppaction://hlinksldjump"/>
          </p:cNvPr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317080" y="544500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657520" cy="37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tretch/>
        </p:blipFill>
        <p:spPr>
          <a:xfrm>
            <a:off x="4572000" y="1700280"/>
            <a:ext cx="354024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2852640"/>
            <a:ext cx="3214440" cy="201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852640"/>
            <a:ext cx="310680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348000" y="54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ry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>
            <a:hlinkClick r:id="rId9"/>
          </p:cNvPr>
          <p:cNvSpPr/>
          <p:nvPr/>
        </p:nvSpPr>
        <p:spPr>
          <a:xfrm>
            <a:off x="971640" y="530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orybird for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25360"/>
            <a:ext cx="4734000" cy="345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195640" y="49338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onemotion.com/flash/sketch-paint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ickr Creative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89000" y="1773360"/>
            <a:ext cx="1349280" cy="57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86280" y="1700280"/>
            <a:ext cx="1701720" cy="132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000160" cy="4362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2448000" y="122868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flickr.com/creativecommons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98560" y="2565360"/>
            <a:ext cx="4373640" cy="3371040"/>
            <a:chOff x="898560" y="2565360"/>
            <a:chExt cx="4373640" cy="3371040"/>
          </a:xfrm>
        </p:grpSpPr>
        <p:pic>
          <p:nvPicPr>
            <p:cNvPr id="92" name="Picture 6" descr=""/>
            <p:cNvPicPr/>
            <p:nvPr/>
          </p:nvPicPr>
          <p:blipFill>
            <a:blip r:embed="rId5"/>
            <a:stretch/>
          </p:blipFill>
          <p:spPr>
            <a:xfrm>
              <a:off x="898560" y="2565360"/>
              <a:ext cx="437364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2"/>
            <p:cNvSpPr/>
            <p:nvPr/>
          </p:nvSpPr>
          <p:spPr>
            <a:xfrm>
              <a:off x="1915560" y="5568120"/>
              <a:ext cx="26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Château Azay-le-Rid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>
            <a:hlinkClick r:id="rId6" action="ppaction://hlinksldjump"/>
          </p:cNvPr>
          <p:cNvPicPr/>
          <p:nvPr/>
        </p:nvPicPr>
        <p:blipFill>
          <a:blip r:embed="rId7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im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24000" y="508464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nimoto.com/play/xDDPC9jVwApjS5qwFFFG5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1763640" y="1700280"/>
            <a:ext cx="6058080" cy="310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68436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732640"/>
            <a:ext cx="57960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im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557360"/>
            <a:ext cx="7318440" cy="3794040"/>
          </a:xfrm>
          <a:prstGeom prst="rect">
            <a:avLst/>
          </a:prstGeom>
          <a:ln w="34920">
            <a:solidFill>
              <a:srgbClr val="a6a6a6"/>
            </a:solidFill>
            <a:miter/>
          </a:ln>
        </p:spPr>
      </p:pic>
      <p:sp>
        <p:nvSpPr>
          <p:cNvPr id="103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5950080"/>
            <a:ext cx="57924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8:37:32Z</dcterms:created>
  <dc:creator>Pauline Lewis</dc:creator>
  <dc:description/>
  <dc:language>en-US</dc:language>
  <cp:lastModifiedBy>Pauline Lewis</cp:lastModifiedBy>
  <dcterms:modified xsi:type="dcterms:W3CDTF">2013-05-06T04:24:04Z</dcterms:modified>
  <cp:revision>101</cp:revision>
  <dc:subject/>
  <dc:title>Slide 1</dc:title>
</cp:coreProperties>
</file>